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EF73-27C1-486A-A077-EFE60061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48F-C4FD-405E-BE54-2DFD1E15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0EA-19B0-49A8-9B65-7DAA625D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E3C-3AD1-4D98-B382-1EE5688F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AED-3BFE-42D3-BBD8-BFCEE51A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A35-0352-403F-BA49-5886350E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7E7F-C8BE-4B57-A9F4-98729A92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10E-2DCE-4BB4-AA03-02AA1233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C709-3255-405A-8B58-6DD5BBAE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8D6-093F-4533-B9FC-E51CB1EA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50A-F710-4A6E-9864-B491DE57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1397-5C49-44E5-BA84-6851D4AC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8B5A-6770-4F94-B989-D3115C0DF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850" t="745" r="0" b="0"/>
          <a:stretch/>
        </p:blipFill>
        <p:spPr>
          <a:xfrm>
            <a:off x="533520" y="596880"/>
            <a:ext cx="8146800" cy="5708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38862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940" t="951" r="0" b="0"/>
          <a:stretch/>
        </p:blipFill>
        <p:spPr>
          <a:xfrm>
            <a:off x="515880" y="569880"/>
            <a:ext cx="8191440" cy="5775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62320" y="114300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i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766" t="1528" r="0" b="0"/>
          <a:stretch/>
        </p:blipFill>
        <p:spPr>
          <a:xfrm>
            <a:off x="501480" y="609480"/>
            <a:ext cx="8205840" cy="5729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438280" y="137160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u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940" t="984" r="0" b="0"/>
          <a:stretch/>
        </p:blipFill>
        <p:spPr>
          <a:xfrm>
            <a:off x="515880" y="577800"/>
            <a:ext cx="8191440" cy="5761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266688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Zeb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766" t="741" r="0" b="0"/>
          <a:stretch/>
        </p:blipFill>
        <p:spPr>
          <a:xfrm>
            <a:off x="501480" y="582480"/>
            <a:ext cx="8205840" cy="573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14400" y="259092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nak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766" t="988" r="0" b="0"/>
          <a:stretch/>
        </p:blipFill>
        <p:spPr>
          <a:xfrm>
            <a:off x="501480" y="590400"/>
            <a:ext cx="8205840" cy="5734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8080" y="44956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onke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927" t="662" r="0" b="0"/>
          <a:stretch/>
        </p:blipFill>
        <p:spPr>
          <a:xfrm>
            <a:off x="533520" y="585720"/>
            <a:ext cx="8153280" cy="572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0" y="9144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ee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697" t="0" r="0" b="0"/>
          <a:stretch/>
        </p:blipFill>
        <p:spPr>
          <a:xfrm>
            <a:off x="520560" y="533520"/>
            <a:ext cx="8159760" cy="5790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4400" y="228600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angaro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600" t="738" r="0" b="875"/>
          <a:stretch/>
        </p:blipFill>
        <p:spPr>
          <a:xfrm>
            <a:off x="512640" y="569880"/>
            <a:ext cx="8167680" cy="5710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243828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154" t="848" r="0" b="0"/>
          <a:stretch/>
        </p:blipFill>
        <p:spPr>
          <a:xfrm>
            <a:off x="533520" y="569880"/>
            <a:ext cx="8173800" cy="5769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23623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olph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771" t="738" r="0" b="1420"/>
          <a:stretch/>
        </p:blipFill>
        <p:spPr>
          <a:xfrm>
            <a:off x="527040" y="569880"/>
            <a:ext cx="8153280" cy="567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23623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e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850" t="738" r="0" b="738"/>
          <a:stretch/>
        </p:blipFill>
        <p:spPr>
          <a:xfrm>
            <a:off x="533520" y="569880"/>
            <a:ext cx="8146800" cy="5718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14400" y="236232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oa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766" t="736" r="0" b="0"/>
          <a:stretch/>
        </p:blipFill>
        <p:spPr>
          <a:xfrm>
            <a:off x="501480" y="563400"/>
            <a:ext cx="8205840" cy="5775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22860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940" t="979" r="0" b="0"/>
          <a:stretch/>
        </p:blipFill>
        <p:spPr>
          <a:xfrm>
            <a:off x="515880" y="565200"/>
            <a:ext cx="8191440" cy="5786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25909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iraff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422" t="988" r="0" b="0"/>
          <a:stretch/>
        </p:blipFill>
        <p:spPr>
          <a:xfrm>
            <a:off x="473040" y="590400"/>
            <a:ext cx="8234280" cy="573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8080" y="22860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nke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850" t="600" r="0" b="1553"/>
          <a:stretch/>
        </p:blipFill>
        <p:spPr>
          <a:xfrm>
            <a:off x="533520" y="555480"/>
            <a:ext cx="8146800" cy="5693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14400" y="518148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a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0:30:18Z</dcterms:created>
  <dc:creator>User</dc:creator>
  <dc:description/>
  <dc:language>en-US</dc:language>
  <cp:lastModifiedBy> </cp:lastModifiedBy>
  <dcterms:modified xsi:type="dcterms:W3CDTF">2009-02-25T11:58:14Z</dcterms:modified>
  <cp:revision>3</cp:revision>
  <dc:subject/>
  <dc:title>Slide 1</dc:title>
</cp:coreProperties>
</file>